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2BDD-7228-47FF-BCCA-C065F0F0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E3F4-6D5F-444A-8F4C-B4D1BF4B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1B4-37D5-4C18-B46E-43181EFE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561-4840-4733-9CB3-AB5A2F4B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F993-CC13-44A5-95EB-12CA1D93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F3B6-5311-48A2-8F61-1ED6146D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4805-F8E7-4046-B147-5F9B1B7D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290B-4FC3-442D-A027-E56307B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A936-B161-4B61-A281-31A5EC58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1082-95C9-46CA-83FE-5F8BE5AF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EA7F-7364-41A1-BA74-563BF0FE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AA8-59CF-4BA1-9D21-EBE29AD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9336-788F-46C8-B88D-361DF12C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6982-BD2B-439C-89B8-FEAEED63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6FA9-7156-4805-8849-8E4CB2BA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CC51-8991-4A92-B1A2-B4D9F2A3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67B-BF93-4E74-8C07-CD6046D3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353F0-0A4E-4D21-9127-72250708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ABBC-AE03-48DF-9D70-723A074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707BA-AFF4-46E0-BB47-A234EEE0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E7680-1641-426D-A503-280366AD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8AD6-2C5F-4F68-B550-9C02C7F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156-4FF1-42FF-BA5A-3B482CEC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7AE9-FFD7-4177-8388-7631DF4D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0547-3CD7-48DD-B8E7-1567999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A8AE-E7F7-4FB8-A7B8-AB9EBDF1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FEAE0-BED8-4871-A979-E97A1BB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4C9D-3E61-4A87-A6AA-0F699C06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DE40-DC19-47CB-9D89-9151D355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5D19-A444-4C5B-8A87-02B8AC20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5C144-BE6C-4B1D-A758-72E86B2CA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BA33-98E6-488C-B21F-753A4F67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8843-B24F-4D13-9748-9762F778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096-4FA8-4BFC-8236-D2D5B3D7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4F5AA-763C-4AD5-877D-C737F63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67E5-995A-4A38-B102-78510826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2343C-77BC-43BC-8A26-E7F9772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21A7C-6693-407A-9C50-25D1E3B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7A356-810D-4166-BD1D-2D99FFFE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DB67-7F28-489B-B220-8E397FD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F149-73DC-4310-965C-473FA4CE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9CDB-5026-4B57-A280-A0895E72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CC79-BF35-4D36-BCEE-4EADDFBB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09D-B2A2-4D29-A4C3-D2BAD2F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F0D-3C84-4541-9BE5-C05AE8E7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2CA-BAFE-4F6F-BAF2-4247992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18E-291D-4D84-B38A-D0F9CC9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DC5-C3ED-4D68-B35E-B6F10950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27CA-C65C-4CFB-8070-69ED0E0314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9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86E7-E15E-4074-8D55-93E413407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3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4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5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6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6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7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1918-4F63-464D-82E4-FA4762C015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7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A5A5-0588-445B-9AA8-1EE3F0A21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inplo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471840" y="3092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5965560" y="5950080"/>
            <a:ext cx="28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ample Present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249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End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Introduction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40328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Winplot is a easy to use program written by Richard Parris. It can graph in two-dimensional and in three-dimensional. It is totally fre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et Start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3456000" cy="1325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2430360" cy="388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>
            <a:off x="826920" y="981000"/>
            <a:ext cx="7704360" cy="587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aph an Equation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3672000" cy="3961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2"/>
          <a:stretch/>
        </p:blipFill>
        <p:spPr>
          <a:xfrm>
            <a:off x="2195640" y="1628640"/>
            <a:ext cx="4103640" cy="2808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9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2090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oom the Wind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835280" y="1960560"/>
            <a:ext cx="6838920" cy="489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5977080" cy="553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"/>
          <p:cNvPicPr/>
          <p:nvPr/>
        </p:nvPicPr>
        <p:blipFill>
          <a:blip r:embed="rId3"/>
          <a:stretch/>
        </p:blipFill>
        <p:spPr>
          <a:xfrm>
            <a:off x="2195640" y="2127240"/>
            <a:ext cx="4824360" cy="47307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"/>
          <p:cNvPicPr/>
          <p:nvPr/>
        </p:nvPicPr>
        <p:blipFill>
          <a:blip r:embed="rId4"/>
          <a:stretch/>
        </p:blipFill>
        <p:spPr>
          <a:xfrm>
            <a:off x="324000" y="1530360"/>
            <a:ext cx="8820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aph Derivative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064360" cy="54007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137440" cy="5399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未命名"/>
          <p:cNvPicPr/>
          <p:nvPr/>
        </p:nvPicPr>
        <p:blipFill>
          <a:blip r:embed="rId3"/>
          <a:stretch/>
        </p:blipFill>
        <p:spPr>
          <a:xfrm>
            <a:off x="395280" y="1125360"/>
            <a:ext cx="8137440" cy="53992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4"/>
          <a:stretch/>
        </p:blipFill>
        <p:spPr>
          <a:xfrm>
            <a:off x="395280" y="1125360"/>
            <a:ext cx="8209080" cy="539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"/>
          <p:cNvPicPr/>
          <p:nvPr/>
        </p:nvPicPr>
        <p:blipFill>
          <a:blip r:embed="rId5"/>
          <a:stretch/>
        </p:blipFill>
        <p:spPr>
          <a:xfrm>
            <a:off x="395280" y="1125360"/>
            <a:ext cx="8209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view equation and change col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Picture 12" descr="1"/>
          <p:cNvPicPr/>
          <p:nvPr/>
        </p:nvPicPr>
        <p:blipFill>
          <a:blip r:embed="rId1"/>
          <a:stretch/>
        </p:blipFill>
        <p:spPr>
          <a:xfrm>
            <a:off x="971640" y="1268280"/>
            <a:ext cx="7115040" cy="4343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2"/>
          <p:cNvPicPr/>
          <p:nvPr/>
        </p:nvPicPr>
        <p:blipFill>
          <a:blip r:embed="rId2"/>
          <a:stretch/>
        </p:blipFill>
        <p:spPr>
          <a:xfrm>
            <a:off x="971640" y="1268280"/>
            <a:ext cx="7115040" cy="43434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3"/>
          <p:cNvPicPr/>
          <p:nvPr/>
        </p:nvPicPr>
        <p:blipFill>
          <a:blip r:embed="rId3"/>
          <a:stretch/>
        </p:blipFill>
        <p:spPr>
          <a:xfrm>
            <a:off x="971640" y="1268280"/>
            <a:ext cx="7095960" cy="43340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5" descr="5"/>
          <p:cNvPicPr/>
          <p:nvPr/>
        </p:nvPicPr>
        <p:blipFill>
          <a:blip r:embed="rId4"/>
          <a:stretch/>
        </p:blipFill>
        <p:spPr>
          <a:xfrm>
            <a:off x="900000" y="1268280"/>
            <a:ext cx="7201080" cy="4383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6" descr="7"/>
          <p:cNvPicPr/>
          <p:nvPr/>
        </p:nvPicPr>
        <p:blipFill>
          <a:blip r:embed="rId5"/>
          <a:stretch/>
        </p:blipFill>
        <p:spPr>
          <a:xfrm>
            <a:off x="900000" y="1268280"/>
            <a:ext cx="7201080" cy="4383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7" descr="4"/>
          <p:cNvPicPr/>
          <p:nvPr/>
        </p:nvPicPr>
        <p:blipFill>
          <a:blip r:embed="rId6"/>
          <a:stretch/>
        </p:blipFill>
        <p:spPr>
          <a:xfrm>
            <a:off x="971640" y="1268280"/>
            <a:ext cx="7129440" cy="4391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8" descr=""/>
          <p:cNvPicPr/>
          <p:nvPr/>
        </p:nvPicPr>
        <p:blipFill>
          <a:blip r:embed="rId7"/>
          <a:stretch/>
        </p:blipFill>
        <p:spPr>
          <a:xfrm>
            <a:off x="900000" y="1268280"/>
            <a:ext cx="7128000" cy="43927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0" descr="9"/>
          <p:cNvPicPr/>
          <p:nvPr/>
        </p:nvPicPr>
        <p:blipFill>
          <a:blip r:embed="rId8"/>
          <a:stretch/>
        </p:blipFill>
        <p:spPr>
          <a:xfrm>
            <a:off x="900000" y="1268280"/>
            <a:ext cx="7201080" cy="43927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1" descr=""/>
          <p:cNvPicPr/>
          <p:nvPr/>
        </p:nvPicPr>
        <p:blipFill>
          <a:blip r:embed="rId9"/>
          <a:stretch/>
        </p:blipFill>
        <p:spPr>
          <a:xfrm>
            <a:off x="900000" y="1197000"/>
            <a:ext cx="720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Zeros Extrema and inters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048720" cy="489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6048720" cy="4896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3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"/>
          <p:cNvPicPr/>
          <p:nvPr/>
        </p:nvPicPr>
        <p:blipFill>
          <a:blip r:embed="rId4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"/>
          <p:cNvPicPr/>
          <p:nvPr/>
        </p:nvPicPr>
        <p:blipFill>
          <a:blip r:embed="rId5"/>
          <a:stretch/>
        </p:blipFill>
        <p:spPr>
          <a:xfrm>
            <a:off x="1547640" y="1341360"/>
            <a:ext cx="5977080" cy="4824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"/>
          <p:cNvPicPr/>
          <p:nvPr/>
        </p:nvPicPr>
        <p:blipFill>
          <a:blip r:embed="rId6"/>
          <a:stretch/>
        </p:blipFill>
        <p:spPr>
          <a:xfrm>
            <a:off x="1547640" y="1341360"/>
            <a:ext cx="5977080" cy="489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"/>
          <p:cNvPicPr/>
          <p:nvPr/>
        </p:nvPicPr>
        <p:blipFill>
          <a:blip r:embed="rId7"/>
          <a:stretch/>
        </p:blipFill>
        <p:spPr>
          <a:xfrm>
            <a:off x="684360" y="1268280"/>
            <a:ext cx="7488000" cy="4967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2" descr=""/>
          <p:cNvPicPr/>
          <p:nvPr/>
        </p:nvPicPr>
        <p:blipFill>
          <a:blip r:embed="rId8"/>
          <a:stretch/>
        </p:blipFill>
        <p:spPr>
          <a:xfrm>
            <a:off x="684360" y="1268280"/>
            <a:ext cx="7488000" cy="4897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3" descr=""/>
          <p:cNvPicPr/>
          <p:nvPr/>
        </p:nvPicPr>
        <p:blipFill>
          <a:blip r:embed="rId9"/>
          <a:stretch/>
        </p:blipFill>
        <p:spPr>
          <a:xfrm>
            <a:off x="755640" y="1268280"/>
            <a:ext cx="7416720" cy="496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4" descr=""/>
          <p:cNvPicPr/>
          <p:nvPr/>
        </p:nvPicPr>
        <p:blipFill>
          <a:blip r:embed="rId10"/>
          <a:stretch/>
        </p:blipFill>
        <p:spPr>
          <a:xfrm>
            <a:off x="684360" y="1268280"/>
            <a:ext cx="74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832360" cy="4819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1547640" y="1197000"/>
            <a:ext cx="5977080" cy="5111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"/>
          <p:cNvPicPr/>
          <p:nvPr/>
        </p:nvPicPr>
        <p:blipFill>
          <a:blip r:embed="rId3"/>
          <a:stretch/>
        </p:blipFill>
        <p:spPr>
          <a:xfrm>
            <a:off x="1332000" y="1125360"/>
            <a:ext cx="6985080" cy="5183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4"/>
          <a:stretch/>
        </p:blipFill>
        <p:spPr>
          <a:xfrm>
            <a:off x="1332000" y="1341360"/>
            <a:ext cx="7057800" cy="4896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5"/>
          <a:stretch/>
        </p:blipFill>
        <p:spPr>
          <a:xfrm>
            <a:off x="1403280" y="1125360"/>
            <a:ext cx="6985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21:19:11Z</dcterms:created>
  <dc:creator>OEM</dc:creator>
  <dc:description/>
  <dc:language>en-US</dc:language>
  <cp:lastModifiedBy>Administrator</cp:lastModifiedBy>
  <dcterms:modified xsi:type="dcterms:W3CDTF">2011-06-24T03:25:25Z</dcterms:modified>
  <cp:revision>18</cp:revision>
  <dc:subject/>
  <dc:title>  Introduction </dc:title>
</cp:coreProperties>
</file>